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5.png" ContentType="image/png"/>
  <Override PartName="/ppt/media/image10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7E0-2D1A-4A69-A534-832746D2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1FC-62D5-481F-8270-35D1F18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602-AE9B-4268-A744-F46BE064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5E3-711A-4311-94CD-4E675C17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7E6-31A1-4FBC-9018-D06AB377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DE3-BE42-4C38-A885-04B03F0C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E3F-AD67-4F5A-8E9E-7F029C93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FD5-73D9-4FE8-B3F5-69A70E5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473-8341-4F5D-9C3E-EA47D90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C48-F7D5-43A9-BE03-3504D0F5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F44-611E-48E2-91A6-1E104E4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9B8-136C-4404-80DA-70A604F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5C8-B53F-498A-B9BD-599418241E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e Characteristics of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0664" r="0" b="7998"/>
          <a:stretch/>
        </p:blipFill>
        <p:spPr>
          <a:xfrm>
            <a:off x="1219320" y="838080"/>
            <a:ext cx="7315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ing Biological Investig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Measurement:  Metric system is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829040" cy="3819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62120" y="2938320"/>
            <a:ext cx="472428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476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r, m, cm, mm,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s, g, kg,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, l, ml,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,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freezing point of water,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boiling point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6002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 1 Main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questions to ge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ing hypothesi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cientific equipment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Dissection:  BI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 means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logy means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Biology means th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83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Biologists know what is living and what is non-liv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INQUIRY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urn, biologists came together and agreed on some general characteristics required for life. (although with some disagre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ganisms have the following characterist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de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ased on a genetic code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Need energy/Have to ability to carry out metabo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Grow and devel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Respond to their environment/Ada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Maintain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2640" y="990720"/>
            <a:ext cx="422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things are made up of units called CEL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living matter enclosed by a barrier that separates the cell from its surroun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can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ingle-celled)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ny-celle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ility to Reprodu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437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asic kinds of re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cells from different parents unite to produce the first cell of the new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new organism has a single parent. Ex: Hydra reproduce by bud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ying out Metabolis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through which an organism builds up or breaks down materials as it carries out its life processe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6536"/>
          <a:stretch/>
        </p:blipFill>
        <p:spPr>
          <a:xfrm>
            <a:off x="3581280" y="32004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 and Develo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9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organism has a distin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articular pattern of growth and change over its lif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d to Enviro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76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live in a changing environment, and so they must respond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 plant seed can germinate only when there is sufficient water and the ground is warm enou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21:55:47Z</dcterms:created>
  <dc:creator>System Operations</dc:creator>
  <dc:description/>
  <dc:language>en-US</dc:language>
  <cp:lastModifiedBy>Tera Linn</cp:lastModifiedBy>
  <dcterms:modified xsi:type="dcterms:W3CDTF">2011-08-24T20:25:15Z</dcterms:modified>
  <cp:revision>17</cp:revision>
  <dc:subject/>
  <dc:title>WHAT IS LIFE?</dc:title>
</cp:coreProperties>
</file>